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3.jpeg" ContentType="image/jpeg"/>
  <Override PartName="/ppt/media/image21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image14.gif" ContentType="image/gif"/>
  <Override PartName="/ppt/media/image1.jpeg" ContentType="image/jpeg"/>
  <Override PartName="/ppt/media/image7.jpeg" ContentType="image/jpeg"/>
  <Override PartName="/ppt/media/image22.gif" ContentType="image/gif"/>
  <Override PartName="/ppt/media/image4.jpeg" ContentType="image/jpeg"/>
  <Override PartName="/ppt/media/image13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E81-5A74-47C9-9721-79666B9E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6DE-94BE-479C-AE5E-DA3E872B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BED-A4EA-477F-802A-9C052B91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A46-433B-4E88-B8B9-A0C13C45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139B-DD5C-48C6-90A0-2132B0A4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4B82-7ACA-459C-9CCC-2FBCA299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6FC6-A104-4929-B2BE-6394DE70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1E5F-5318-45FB-88CE-A2F2790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859F-640C-4D07-96EA-060BCFD3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B212-AF26-4577-9E88-F70BAEE8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D667-48ED-4B2B-86DD-A3517C78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10E-32FC-4709-9BCD-3E5F49BF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A29B-AAD5-4D6F-9B3A-3A91096E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4CAA-85E5-4BF4-9305-E8217224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C049-2B8D-4E57-B8CD-BEDDBEA3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57E1-6EEB-4816-B59B-A60C7B9E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7150-B863-4598-A8DB-EF718686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2E7A5-3A52-4F3A-8E06-8E7B4226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858CB-5329-42EF-96F3-EE6C833B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62BE5-0045-45A7-9069-4745DAC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AB1E-2FB0-4A1D-86F2-8A409C7A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0475-C506-4FCA-AF54-3721E511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531-A0E8-4ED4-809C-954FF37D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A0C9-FF29-4AD3-9FA6-C826FC89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294C-247E-4FE2-B97B-857D4B64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FB4D-4F8B-472A-976E-E3DEC46D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C830-1B41-4018-AF32-96D1E51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8C3A-B3F2-4EEB-A84E-B3008B47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791F-564D-4830-9CC0-5CDB7F40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4EF2-0F89-45DC-AA05-8CC01876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75D2-BF49-4E12-829C-A7227C2F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F1F5-CE5B-4497-A9E9-D0D7D7C8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27A3-18E9-4BAE-83F8-883A6A63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E1C-062E-4932-BA0C-9F0F005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F386-F8EB-4457-AAAE-4C95E5F3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1727-EAE1-41DC-BC34-30A5699C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8C8E-D93E-4ADF-832E-E9D4A00B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E415-A837-4C3C-886F-271DEAA7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503BA-D785-4AB5-B80A-8B66935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AB16-B10A-4AFF-A3BC-D33CE57D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8F3A-B732-4DDB-A566-A9279A5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32365-56C7-47B1-AA09-D310C288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3B08-659D-419A-AEFD-8184E214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EAE-D354-409E-A882-0B74B160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AB3-FA7A-451C-B8ED-53EBFAC0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50B-82FC-4D6B-ACB1-101ABF92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995-90FF-4A68-95E0-7CD9C71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B33-D18C-4268-9665-533E1A00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FA0449-2A1C-42DC-A77B-015C63C0C00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B9C415-C577-4077-968B-4BDFFE98471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6D69DB-8241-487D-9361-80C168C0B15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BB0FD9-C5D6-48FB-8DFC-8EEC97EB278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одержимое 3" descr="image.gif"/>
          <p:cNvPicPr/>
          <p:nvPr/>
        </p:nvPicPr>
        <p:blipFill>
          <a:blip r:embed="rId1"/>
          <a:stretch/>
        </p:blipFill>
        <p:spPr>
          <a:xfrm>
            <a:off x="1785960" y="1643040"/>
            <a:ext cx="5880960" cy="28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Informal Roman"/>
              </a:rPr>
              <a:t>Guess a riddle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холм подняться я решил. Холм по-английски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одержимое 6"/>
          <p:cNvSpPr/>
          <p:nvPr/>
        </p:nvSpPr>
        <p:spPr>
          <a:xfrm>
            <a:off x="457200" y="2500200"/>
            <a:ext cx="4039920" cy="316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ился в поле. Все болит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ле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3">
                    <a:lumMod val="50000"/>
                  </a:schemeClr>
                </a:solidFill>
                <a:latin typeface="Arial Black"/>
              </a:rPr>
              <a:t>Make up sentences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92888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 lot of/ hills/ there are/ in the/ green/ country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/ a long/ your/ there is/ town/ riv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4">
                    <a:lumMod val="75000"/>
                  </a:schemeClr>
                </a:solidFill>
                <a:latin typeface="Chiller"/>
              </a:rPr>
              <a:t>Divide the descriptions into 2 columns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Содержимое 3"/>
          <p:cNvGraphicFramePr/>
          <p:nvPr/>
        </p:nvGraphicFramePr>
        <p:xfrm>
          <a:off x="457200" y="1600200"/>
          <a:ext cx="8229240" cy="197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714240" y="4357800"/>
            <a:ext cx="3857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3790800"/>
            <a:ext cx="385740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It is big. It is noisy. You can see a lot of cars, buses and tram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4933800"/>
            <a:ext cx="400032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t is quiet. It is peaceful. It is green. You can see a lot of apple trees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071960" y="3790800"/>
            <a:ext cx="47858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treets are wide and long. There are many people in the streets. They are always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714920" y="4786200"/>
            <a:ext cx="4214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14880" y="4862520"/>
            <a:ext cx="45716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There are a lot of buildings. The houses are big and tall. You can see many bridg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3120" y="5861160"/>
            <a:ext cx="4785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streets are small. There are many animal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L -2.77778E-006 -0.30463 E">
                                      <p:cBhvr>
                                        <p:cTn id="1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-0.03032 L 0.39184 -0.46088 E">
                                      <p:cBhvr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42048 -0.18912 E">
                                      <p:cBhvr>
                                        <p:cTn id="17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45504 -0.24051 E">
                                      <p:cBhvr>
                                        <p:cTn id="1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3056 L 0.17344 -0.38473 E">
                                      <p:cBhvr>
                                        <p:cTn id="1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Mark the correct sentence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777204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cow in the country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chemeClr val="accent1">
                    <a:lumMod val="50000"/>
                  </a:schemeClr>
                </a:solidFill>
                <a:latin typeface="Juice ITC"/>
              </a:rPr>
              <a:t>Complete the sentences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1571760"/>
            <a:ext cx="7772040" cy="39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ве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in the countr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of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рыбы) 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the river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garden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shop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orbel"/>
              </a:rPr>
              <a:t>Mark the singular noun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000160"/>
            <a:ext cx="777204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n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9862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6">
                    <a:lumMod val="50000"/>
                  </a:schemeClr>
                </a:solidFill>
                <a:latin typeface="Chiller"/>
              </a:rPr>
              <a:t>Which word is spelt in the wrong way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32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ver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ry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ve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not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us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it because …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E:\Английский язык\Фотографии\мультгерои\image28.gif"/>
          <p:cNvPicPr/>
          <p:nvPr/>
        </p:nvPicPr>
        <p:blipFill>
          <a:blip r:embed="rId1"/>
          <a:stretch/>
        </p:blipFill>
        <p:spPr>
          <a:xfrm>
            <a:off x="4643280" y="42876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:\Английский язык\Фотографии\мультгерои\нюша 2.png"/>
          <p:cNvPicPr/>
          <p:nvPr/>
        </p:nvPicPr>
        <p:blipFill>
          <a:blip r:embed="rId2"/>
          <a:stretch/>
        </p:blipFill>
        <p:spPr>
          <a:xfrm>
            <a:off x="4857840" y="2214720"/>
            <a:ext cx="3936240" cy="42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E:\Английский язык\Фотографии\мультгерои\матроскин.gif"/>
          <p:cNvPicPr/>
          <p:nvPr/>
        </p:nvPicPr>
        <p:blipFill>
          <a:blip r:embed="rId3"/>
          <a:stretch/>
        </p:blipFill>
        <p:spPr>
          <a:xfrm>
            <a:off x="4714920" y="92880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:\Английский язык\Фотографии\мультгерои\parrot kesha.gif"/>
          <p:cNvPicPr/>
          <p:nvPr/>
        </p:nvPicPr>
        <p:blipFill>
          <a:blip r:embed="rId4"/>
          <a:stretch/>
        </p:blipFill>
        <p:spPr>
          <a:xfrm>
            <a:off x="5000760" y="2286000"/>
            <a:ext cx="34239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thank_you_011.gif"/>
          <p:cNvPicPr/>
          <p:nvPr/>
        </p:nvPicPr>
        <p:blipFill>
          <a:blip r:embed="rId1"/>
          <a:stretch/>
        </p:blipFill>
        <p:spPr>
          <a:xfrm>
            <a:off x="2143080" y="1285920"/>
            <a:ext cx="4971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good bye 13.jpg"/>
          <p:cNvPicPr/>
          <p:nvPr/>
        </p:nvPicPr>
        <p:blipFill>
          <a:blip r:embed="rId1"/>
          <a:stretch/>
        </p:blipFill>
        <p:spPr>
          <a:xfrm>
            <a:off x="2143080" y="928800"/>
            <a:ext cx="4643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Country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d</a:t>
            </a: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chemeClr val="accent5">
                    <a:lumMod val="50000"/>
                  </a:schemeClr>
                </a:solidFill>
                <a:latin typeface="Cooper Black"/>
              </a:rPr>
              <a:t>Cit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3" descr="city_country.jpg"/>
          <p:cNvPicPr/>
          <p:nvPr/>
        </p:nvPicPr>
        <p:blipFill>
          <a:blip r:embed="rId1"/>
          <a:stretch/>
        </p:blipFill>
        <p:spPr>
          <a:xfrm>
            <a:off x="1523880" y="1720080"/>
            <a:ext cx="609552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rgbClr val="17375e"/>
                </a:solidFill>
                <a:latin typeface="Chiller"/>
              </a:rPr>
              <a:t>Choose the appropriate word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10717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in the city are very …. 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small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angr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wind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428760" y="3429000"/>
            <a:ext cx="3428640" cy="21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Which words are connected with </a:t>
            </a:r>
            <a:r>
              <a:rPr b="1" lang="en-US" sz="4400" spc="-1" strike="noStrike" cap="all">
                <a:solidFill>
                  <a:schemeClr val="accent1">
                    <a:lumMod val="75000"/>
                  </a:schemeClr>
                </a:solidFill>
                <a:latin typeface="Chiller"/>
              </a:rPr>
              <a:t>a city</a:t>
            </a: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icture 2"/>
          <p:cNvSpPr/>
          <p:nvPr/>
        </p:nvSpPr>
        <p:spPr>
          <a:xfrm>
            <a:off x="428760" y="3500280"/>
            <a:ext cx="3571560" cy="204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eeece1">
                <a:lumMod val="2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70c0"/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 как здесь красиво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ам, здесь речка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одержимое 6"/>
          <p:cNvSpPr/>
          <p:nvPr/>
        </p:nvSpPr>
        <p:spPr>
          <a:xfrm>
            <a:off x="457200" y="2635560"/>
            <a:ext cx="4039920" cy="302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041360" cy="88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знали, сообщаю вам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ферма – это …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одержимое 7"/>
          <p:cNvSpPr/>
          <p:nvPr/>
        </p:nvSpPr>
        <p:spPr>
          <a:xfrm>
            <a:off x="4714920" y="2286000"/>
            <a:ext cx="390348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8064a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030a0"/>
                </a:solidFill>
                <a:latin typeface="Arial Rounded MT Bold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хочет всем помочь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6"/>
          <p:cNvSpPr/>
          <p:nvPr/>
        </p:nvSpPr>
        <p:spPr>
          <a:xfrm>
            <a:off x="714240" y="2500200"/>
            <a:ext cx="3357360" cy="3873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 наш город посетите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это будет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4572000" y="271476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4f81bd">
                <a:lumMod val="40000"/>
                <a:lumOff val="6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a452a"/>
                </a:solidFill>
                <a:latin typeface="Berlin Sans FB Demi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еревню ехать очень рад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ня –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6" descr="8ZX4D00Z.jpg"/>
          <p:cNvPicPr/>
          <p:nvPr/>
        </p:nvPicPr>
        <p:blipFill>
          <a:blip r:embed="rId1"/>
          <a:stretch/>
        </p:blipFill>
        <p:spPr>
          <a:xfrm>
            <a:off x="427320" y="2500200"/>
            <a:ext cx="4073040" cy="3278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рень в саду цветет. Прохлада. Сад по-английски – это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й вам задам вопро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ак назвали лошадь?» -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6" descr="905478307.gif"/>
          <p:cNvPicPr/>
          <p:nvPr/>
        </p:nvPicPr>
        <p:blipFill>
          <a:blip r:embed="rId1"/>
          <a:stretch/>
        </p:blipFill>
        <p:spPr>
          <a:xfrm>
            <a:off x="457200" y="2594520"/>
            <a:ext cx="4039920" cy="311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вою Буренку называю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ушка – коровушка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7" descr="1944.gif"/>
          <p:cNvPicPr/>
          <p:nvPr/>
        </p:nvPicPr>
        <p:blipFill>
          <a:blip r:embed="rId2"/>
          <a:stretch/>
        </p:blipFill>
        <p:spPr>
          <a:xfrm>
            <a:off x="5000760" y="257184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Harlow Solid Italic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рисуешь доченька?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очка, смотри! Я рисую дерево, по – английски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6" descr="tree2.gif"/>
          <p:cNvPicPr/>
          <p:nvPr/>
        </p:nvPicPr>
        <p:blipFill>
          <a:blip r:embed="rId1"/>
          <a:stretch/>
        </p:blipFill>
        <p:spPr>
          <a:xfrm>
            <a:off x="642960" y="2286000"/>
            <a:ext cx="3492000" cy="395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 тропинки стадо пас. Тропинка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одержимое 7"/>
          <p:cNvSpPr/>
          <p:nvPr/>
        </p:nvSpPr>
        <p:spPr>
          <a:xfrm>
            <a:off x="5214960" y="2286000"/>
            <a:ext cx="264276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9bbb59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45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3-04-29T21:30:40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